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D066-7507-4758-BD20-2806A2CFD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7851-C6DD-4C2D-8BE7-5E4CD1280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AF56-461F-4D26-B5D0-2005FED5D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3B0F-C3CC-4D85-8C0A-63447DAA8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4ABF-568F-4CA3-B42F-C69688EC3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2CF7-8198-4154-BCA1-67388E3C8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3962-9AAD-4F1C-96FF-FA0BB8355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D451-AFE1-4257-B557-FFBE54966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C24E-0352-4E47-86E7-C6A409F43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09A0-6849-4069-BCDA-6BC147A78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EC01-BF0A-41B2-8583-B88406900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A78E-03AD-42D8-851C-B0F0602F8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7C5C9-E562-4337-AF4F-E240A5C71A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be0e3"/>
                </a:solidFill>
                <a:latin typeface="Arial Narrow"/>
              </a:rPr>
              <a:t>The Lord’s Pray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Our Father in heaven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hallowed be your nam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your kingdom com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your will be don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on earth as in heav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Give us today our daily brea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Forgive us our si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s we forgive thos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ho sin against 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Save us from the time of tr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nd deliver us from evi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For the kingdom, the power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nd the glory are yo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now and for ever. Am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6172200"/>
            <a:ext cx="85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 Narrow"/>
              </a:rPr>
              <a:t>ELLC 198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2T00:20:11Z</dcterms:created>
  <dc:creator>Anon Anon</dc:creator>
  <dc:description/>
  <dc:language>en-US</dc:language>
  <cp:lastModifiedBy>Anon Anon</cp:lastModifiedBy>
  <dcterms:modified xsi:type="dcterms:W3CDTF">2005-08-16T04:24:54Z</dcterms:modified>
  <cp:revision>12</cp:revision>
  <dc:subject/>
  <dc:title>Lord’s Prayer</dc:title>
</cp:coreProperties>
</file>